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81A-4473-4899-9C8A-65B3ED4B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0D5-62A9-43DB-8B54-A6AE752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37E-D4EF-4FDB-9A9D-579D2375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1E7-DBD8-4BEE-A99E-55860F14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998-23DD-42F2-B7FD-B7C72FCA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BFD-4589-40FC-BAB4-8D96331B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C3B-92AE-4FBB-A693-B90FB2F0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E39-BBAF-4E87-AE80-63CCE67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FF4-1567-4AA0-975F-AB095FAF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878-97B7-4DE0-9286-AF76FFB6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7C8-0E7C-4CD8-99F5-5B9C9BB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451-20DB-42A2-8BFA-E3363FF0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25592B-3F3E-4FF6-A859-57BF0033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Does Kroger brand Velveeta taste different than regu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By: Bryan Anschut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Kroger brand Velveeta chee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Kraft Velveeta che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People, Nick, Chrys, Robb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Emma,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Bayle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, Cri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at Kroger brand will taste different than regular. Because kroger brand is cheaper than the regular because it doesn’t have all the right ingredia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Which cheese tastes different kraft or Kroger and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 conclusion was that the cheese tasted different because they had 2 totally different ingre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take 12 people 6 from each class and I will test if Velveeta cheese Kraft or Kroger b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na says that it tastes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lee says that they taste differ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lee says that they tast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tin P says that there isnt much taste different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ys says they tast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lan says they taste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9:03:02Z</dcterms:created>
  <dc:creator>USD376</dc:creator>
  <dc:description/>
  <dc:language>en-US</dc:language>
  <cp:lastModifiedBy>STERLING  USD376</cp:lastModifiedBy>
  <cp:lastPrinted>2009-04-22T19:24:48Z</cp:lastPrinted>
  <dcterms:modified xsi:type="dcterms:W3CDTF">2011-03-11T14:47:22Z</dcterms:modified>
  <cp:revision>7</cp:revision>
  <dc:subject/>
  <dc:title>Does Kroger brand Velveeta taste different than regular.</dc:title>
</cp:coreProperties>
</file>